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B16-3A2A-4A33-A51E-9BB17723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14A-0481-460A-8B05-20E82E2A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734-76CC-43BC-840C-6E041803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0B6-C8CD-4853-8826-099DE4FB5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16D9-AB6C-45E3-BAF5-0AD7CEFC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9354-5F0D-4DDF-94AF-472106F4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1596-75CE-449C-BE9B-A4662DE3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3ADF-A5C9-4C7D-8898-19E82AEF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C742-036B-402B-A12D-987DD542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142D-1250-4A4B-AB0A-E98B9258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F0AF-5C44-4214-87C5-89D032F5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3EB-B1D3-46BA-8FF1-D28977B1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5C5A-F0A8-44FD-92AC-323F4C96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75CD-A0DA-4711-B627-DC5983BC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0FB5-13CB-4C1F-AE34-A2687F09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4576-DBBF-4F11-A3CC-B274434C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A3FC-EB3F-49A6-A3BA-26BF9E99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8D9DE-DCD0-42AC-BA69-D74FDFB3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B3EC-3303-450D-A23A-775B8B60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F0701-5D7F-48F8-B8EF-DF25DC21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79734-EADA-4F4E-A4B3-B625DD50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8A9C3-6D75-426B-AC20-30468F5D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C0C-0F0F-4781-8009-58EC9B4E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B33D8-379C-45EA-BB4D-FC88497F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9531B-8FB2-40D6-B7D5-2D3A693A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A7D81-90C1-4195-9D5E-1797D0BE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5C21B-65EE-4462-B6A2-3CE0ADE4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7B653-3C46-4716-B74D-22D37303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5FF4-C4F3-452E-A638-06334B8E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7D448-AA98-4DCC-A083-761966BD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D0794-2715-478E-82AE-80374A6C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50E2B-8658-43F5-B2F4-061EE6B3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2B8F6-2A60-491E-BD06-81316E72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38C-00D0-4E69-BEB6-0D87C80A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6F324-08D4-4A16-B88C-26B00BDF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98C1-7CE4-4CB7-AF27-4A3E95A0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54CD2-56BA-42ED-A566-018B156A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93758-917E-4371-B900-A8C61CBD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005F7-1AB4-43CC-8293-D8E909B4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14815-5695-4CE8-AF63-AE1D49BB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F12DC-D32A-4A3C-9597-78F6598B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91B6-CFBE-4589-908B-EE7A3D5D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4B718-8B8F-44DD-8C09-D32DF582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86D-42BB-45D1-9B4E-A4F7CFE4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252A-E647-4787-AEE3-C926ABD9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ED04-7384-461E-B996-B1EA46C2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A05-FF2A-48E8-99F9-DF9BD4E4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771-06EF-4D9E-A290-D7E405E2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E664-3BC2-43A4-BCAB-35934A911D1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0705-FFCB-457D-A4D6-4E6221B2F8E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9CB9-2E2C-4222-92B3-1493AD69D5D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028B-8258-4DF8-88C1-2C5444569E1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n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much would a green salad and a bowl of tomato soup cos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ues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much more does a hamburger cost than a bowl of chicken noodle soup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dnes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Nikki had 75 cents how much more would she need to buy a hamburg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urs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Jaquese paid for a piece of apple pie with 3 quarters, how much more change would she receiv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ri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st at least 5 combinations of items that Jordan could buy for exactly 3 quarters, 2 dimes, and 3 penn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04:08Z</dcterms:created>
  <dc:creator>127partidak</dc:creator>
  <dc:description/>
  <dc:language>en-US</dc:language>
  <cp:lastModifiedBy>127partidak</cp:lastModifiedBy>
  <dcterms:modified xsi:type="dcterms:W3CDTF">2011-11-21T16:25:01Z</dcterms:modified>
  <cp:revision>5</cp:revision>
  <dc:subject/>
  <dc:title>Monday</dc:title>
</cp:coreProperties>
</file>